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1D7C-CCBF-46ED-B392-ECD9CB205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D752-41A1-446D-8241-CBB4F0CCC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2951-314E-43BA-8EFB-2283CCFD7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34D1-157B-4AD2-B6BA-27F3B5904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8977-8000-4804-B6E3-C2DB63C03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9DDB-355B-4899-8B4C-E91AEA101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49F1-58B4-4490-B8C7-BA015A79D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EB4D-9764-4284-9368-7BE24DE20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8178-CFF5-458F-9756-492B3A1E1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9B4B-41CC-4F40-8F47-EB88F1B51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DA6E-4706-4711-B0D4-53041E65E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C651-E077-40DB-962C-7178D871B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B576A-68A6-417E-A414-A3E8CDB1CD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hrono.info/img/lica/raevskaya_marnik.jp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principle-alpha.ru/p31-49.GIF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nekrasow.org.ru/lib/op/author/493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nekrasov_pic_02"/>
          <p:cNvPicPr/>
          <p:nvPr/>
        </p:nvPicPr>
        <p:blipFill>
          <a:blip r:embed="rId1"/>
          <a:stretch/>
        </p:blipFill>
        <p:spPr>
          <a:xfrm>
            <a:off x="928800" y="1500120"/>
            <a:ext cx="7858080" cy="3000600"/>
          </a:xfrm>
          <a:prstGeom prst="rect">
            <a:avLst/>
          </a:prstGeom>
          <a:ln w="0">
            <a:noFill/>
          </a:ln>
        </p:spPr>
      </p:pic>
      <p:pic>
        <p:nvPicPr>
          <p:cNvPr id="42" name="Заголовок 1" descr=""/>
          <p:cNvPicPr/>
          <p:nvPr/>
        </p:nvPicPr>
        <p:blipFill>
          <a:blip r:embed="rId2"/>
          <a:stretch/>
        </p:blipFill>
        <p:spPr>
          <a:xfrm>
            <a:off x="530280" y="1365120"/>
            <a:ext cx="8192880" cy="18907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571320" y="2918880"/>
            <a:ext cx="7854840" cy="1806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Arial"/>
              </a:rPr>
              <a:t>Выполнила Дуркина Анжелика Степановн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Arial"/>
              </a:rPr>
              <a:t>Студенка 4 курс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Arial"/>
              </a:rPr>
              <a:t>Филологического  факультета КГП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2571840" y="564372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Сыктывкар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? Основополагающий вопрос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28760" y="18568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На  что способен человек ради любви?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i?id=10950460&amp;tov=2"/>
          <p:cNvPicPr/>
          <p:nvPr/>
        </p:nvPicPr>
        <p:blipFill>
          <a:blip r:embed="rId1"/>
          <a:stretch/>
        </p:blipFill>
        <p:spPr>
          <a:xfrm>
            <a:off x="1357200" y="3286080"/>
            <a:ext cx="2286000" cy="32022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Картинка 2 из 101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929120" y="3143160"/>
            <a:ext cx="207180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? Проблемные вопросы 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97440" indent="-3974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чему Н.А. Некрасов обратился к теме о женах декабристов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то является главной героиней поэмы Н.А. Некрасова «Русские женщины»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 чем повествуют части поэмы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ак автор  относится к своим героям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акими чертами характера обладают княгини Трубецкая и Волконская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ак Н.А. Некрасов изобразил любовь женщины в своей поэме «Русские женщины»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Представление результатов исследования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очинение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эссе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творческое задание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резентация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таблица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фото - репортаж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ообщени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Картинка 801 из 103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57840" y="1951200"/>
            <a:ext cx="3214440" cy="381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Мы будем изучать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57560" indent="-45756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эма как жанр произведе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560" indent="-45756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Историческая основа поэмы Н.А. Некрасова «Русские женщины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560" indent="-45756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еличие духа русских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женщин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 поэме Н.А. Некрасова «Русские женщины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560" indent="-45756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сновные некрасовские представления о духов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м подвиге во имя любви русских женщин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560" indent="-45756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равнени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и сопоставлени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бразов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княгинь Трубецкой и Волконско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560" indent="-45756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Распределение по группам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85840" y="1928880"/>
          <a:ext cx="8329680" cy="4114800"/>
        </p:xfrm>
        <a:graphic>
          <a:graphicData uri="http://schemas.openxmlformats.org/drawingml/2006/table">
            <a:tbl>
              <a:tblPr/>
              <a:tblGrid>
                <a:gridCol w="1055520"/>
                <a:gridCol w="4338720"/>
                <a:gridCol w="939960"/>
                <a:gridCol w="1995480"/>
              </a:tblGrid>
              <a:tr h="176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омер групп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м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частник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едставлени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зультатов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сследован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эма как жанр произведения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торическая основа поэмы Н.А. Некрасова «Русские женщины»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личие духа русских по поэме Н.А. Некрасова «Русские женщины»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43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некрасовские представления о духовом подвиге во имя любви русских женщин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авнения и сопоставления любви княгинь Трубецкой и Волконской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Продолжительность проекта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2 недели.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Этапы проведения проекта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ыбор и формулировка тем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иск информаци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амостоятельная работа учащихс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редоставление результатов исследова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Информационные ресурсы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nekrasow.org.ru/lib/op/author/49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www.kostyor.ru/student/?n=24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lib.ru/LITRA/NEKRASOW/trubeckaya.txt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lit.1september.ru/2003/37/5.ht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тудент</cp:lastModifiedBy>
  <dcterms:modified xsi:type="dcterms:W3CDTF">2010-04-07T08:51:1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